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EEEF8-1099-44FD-8300-2C694D7D3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69BAD-A6E5-47B7-9C9B-65066289E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885C3-49E0-4CC6-A5FC-A64162E7F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38156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47712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28600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38156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47712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E0F69-E07E-4AC5-807D-8D0FA1CB9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27B19C-41FF-4AA9-96BA-A3CBF43AD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8EB8CB-933A-487D-B7DC-64B48D3F9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B3220C-36CB-43C4-8292-C7EF2C8F6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982449-6D91-4238-9B96-AF5C2A2A1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908831-C56D-4EE6-B5CD-4E5925108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58800" y="455400"/>
            <a:ext cx="7824960" cy="61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F12071-304B-49CD-8AE1-C923BA9CF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A2180C-AB97-4F87-8114-6D9FA3B2A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C0C57-BBF3-44DF-982A-D71900D05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AA7477-7C58-4079-9497-7074D1AE6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AF4BAF-D75B-463A-9CF2-8D58EA21E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0DFEF3-43A7-4702-9E8B-77DBD373B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CB7635-A23F-481A-B116-3C78FBF51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38156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712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228600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438156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712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EBBBDD-579C-427C-BBF8-9912A9A29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C76D1F-14EA-418C-84E9-22AC9F1A2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E2DBA7-653D-4D88-B5CC-2C4DBBC52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F34A74-BA2C-4FE5-92CA-75B1F6CF3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9C03B2-50A1-44A8-AC1B-0B2435D56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EE1A5A-8D07-433D-A60E-8EC011DA6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7FD60-AD28-4AC0-9E12-8392F8BA5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658800" y="455400"/>
            <a:ext cx="7824960" cy="61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C554EA-78B7-4159-94F1-8F72BE7B0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0569A5-887C-4C0B-911A-4465E2DDA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6FDE1F-7692-4F31-A792-8B772E4F8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C06DBB-C155-4298-863A-8FA8B9356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253E35-8C59-4A1B-BED1-29F25F72C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7D654E-8CCC-4765-A8D1-5DF048532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38156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47712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228600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438156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47712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4D9A65-7E19-4D62-AE01-49F60B0BE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0E6FC7-E6FD-46DE-878D-64D3FE69C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4E9DB2-2E66-4C03-8388-1301F7D08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8FB48D-CA25-48D2-A1AF-C0D09D639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DEC56-D9AA-45D0-B79B-BE5E7753B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35EBF0-36FB-4E6A-9FD5-4BBD697FF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AD150E-64E0-4D98-AB84-309B33612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658800" y="455400"/>
            <a:ext cx="7824960" cy="61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D0CAB4-55BF-41BE-877C-7342CFF68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CD7939-A106-4477-8EDD-709672CD2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1C660F-A6DC-4D0E-8E4D-73D326D9A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161D62-B3E0-407C-873E-C7296A297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5643F7-F22A-4D28-8EFE-387CF5DAB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E0505C-7FAE-4386-8526-1BA49FC85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38156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47712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228600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438156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47712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699D3D-B1CA-488D-9331-FEF2FDF1F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9CFC4F-E5D8-44B7-9E07-DA80212FB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90435-7433-4394-BDB9-46D96E352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06F955-018C-417A-A041-8DEED2F2A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2B69EC-F6BE-46C7-B934-843BB7F0B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D89C75-D2DC-408F-B7F7-C02679AEF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EC9FF6-2D56-4C94-A843-41CD3DF4F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658800" y="455400"/>
            <a:ext cx="7824960" cy="61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A64D10-463A-4878-833C-99DCDFBF3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879378-CAF3-45EE-999F-CF3A1EE24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E83AE4-D25F-443E-B72A-3DACB1D99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41820B-D575-4616-AF60-51EC2BA10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CAEAD0-A0A2-4BEF-9FE6-302712512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D8BED2-4710-417A-89DB-F5745077C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58800" y="455400"/>
            <a:ext cx="7824960" cy="61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C4B02-3A8C-4147-9025-9D7860D69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38156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47712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228600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438156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47712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56B4B4-D521-4B30-944B-0273E66B1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7876AF-382B-4A8C-8CAB-A4823C2DF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CD4DA0-7FDE-4912-AC07-1283179ED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31A3A7-F7CC-4F82-9AF5-3B54A4AC6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E88A23-8DB8-4F58-BF3B-7803017DE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BFECA5-A645-4F0F-8D57-9FFF55D1D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658800" y="455400"/>
            <a:ext cx="7824960" cy="61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DFCF4E-B9FF-49C4-AFBB-6EB93DA7A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2F141C-0C62-4644-819B-1C8008F72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CC86EF-2DA8-4A4E-BA30-6BE8D5B22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E3C1D9-051A-4929-AEA4-4AC6D9536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19FDB-B478-4F0E-A049-9E1EB35AD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7470D3-5167-4FAD-9581-2DFF6F06F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C9E110-36CF-4200-A368-3F3C1C64D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38156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47712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228600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438156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47712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49C29B-8484-4436-B258-2A68CFB6E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55687C-286B-42DA-991A-C838436A1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0D4DA3-05FD-4C0B-B7FB-6FAF8B869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D99DA9-C291-4536-B499-58133064F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C9B24C-F70D-4156-8DEC-01F8C6FEF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8074CA-862D-4167-97F2-72682F0A4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658800" y="455400"/>
            <a:ext cx="7824960" cy="61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5466AB-7E0B-4897-B3D7-87C7347C1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B8D89F-BCA6-4FE7-AFA7-0865BC555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8F2B9-1A3A-47AA-B4AA-C997DF0A5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0FB67C-B234-4755-9BAB-EB16A9A47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C6E418-DF35-4611-9F99-F2FDC9543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DF7CCF-3D36-4C00-93D1-487253776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4CFE5F-1926-4ED3-846B-D8535F976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38156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47712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228600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438156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647712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58AAFA-7C5D-4FF8-AC55-0845459EE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35F87F-0E90-4839-A677-D9803CC9C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6F8738-771F-4F43-AD74-86603AB0B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990C78-ABF6-449D-A646-B2B93C3C2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F00D39-AA45-4418-9DBF-1207A4C0F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E2D261-2CE9-4BA6-9C42-0DE05C8B1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C16B3-2972-426B-B0A3-ECD52EEFA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ubTitle"/>
          </p:nvPr>
        </p:nvSpPr>
        <p:spPr>
          <a:xfrm>
            <a:off x="658800" y="455400"/>
            <a:ext cx="7824960" cy="61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D9CD51-ECD3-4C60-A823-D3545AEDE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62DBED-7DA4-4D1D-BAF8-EA5D07AE4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100B08-AA15-4D0D-81A7-6C9A9FC4C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D4712A-5B02-433F-9763-3AC14F150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072418-3899-4DCC-897E-4F3E9D90A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05DF46-C91E-4AE7-B557-876707705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38156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47712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228600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55" name="PlaceHolder 6"/>
          <p:cNvSpPr>
            <a:spLocks noGrp="1"/>
          </p:cNvSpPr>
          <p:nvPr>
            <p:ph/>
          </p:nvPr>
        </p:nvSpPr>
        <p:spPr>
          <a:xfrm>
            <a:off x="438156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56" name="PlaceHolder 7"/>
          <p:cNvSpPr>
            <a:spLocks noGrp="1"/>
          </p:cNvSpPr>
          <p:nvPr>
            <p:ph/>
          </p:nvPr>
        </p:nvSpPr>
        <p:spPr>
          <a:xfrm>
            <a:off x="647712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ADF759-DB08-418F-8294-DAC8C1466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0" descr="RunningTop-R.jpg"/>
          <p:cNvPicPr/>
          <p:nvPr/>
        </p:nvPicPr>
        <p:blipFill>
          <a:blip r:embed="rId2"/>
          <a:stretch/>
        </p:blipFill>
        <p:spPr>
          <a:xfrm>
            <a:off x="457200" y="457200"/>
            <a:ext cx="8229600" cy="13827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Click to edit the outline text format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con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2" marL="8604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Thir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3" marL="11430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our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4" marL="1425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if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5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ix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6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ven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EF5902-4ED6-4AC5-9B46-37CC175CA220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7520" y="6492960"/>
            <a:ext cx="341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379440" y="6149520"/>
            <a:ext cx="533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99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EF0C40-7C15-4B66-9BF4-0C2900240169}" type="slidenum">
              <a:rPr b="0" lang="en-US" sz="18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6"/>
          <p:cNvSpPr/>
          <p:nvPr/>
        </p:nvSpPr>
        <p:spPr>
          <a:xfrm>
            <a:off x="320760" y="320760"/>
            <a:ext cx="8502480" cy="6216480"/>
          </a:xfrm>
          <a:prstGeom prst="rect">
            <a:avLst/>
          </a:prstGeom>
          <a:noFill/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457200" y="1841400"/>
            <a:ext cx="8229600" cy="1191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0"/>
          <p:cNvSpPr/>
          <p:nvPr/>
        </p:nvSpPr>
        <p:spPr>
          <a:xfrm>
            <a:off x="341280" y="928800"/>
            <a:ext cx="8433000" cy="17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320760" y="320760"/>
            <a:ext cx="8502480" cy="6216480"/>
          </a:xfrm>
          <a:prstGeom prst="rect">
            <a:avLst/>
          </a:prstGeom>
          <a:noFill/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2"/>
          <p:cNvSpPr/>
          <p:nvPr/>
        </p:nvSpPr>
        <p:spPr>
          <a:xfrm>
            <a:off x="457200" y="817560"/>
            <a:ext cx="8229600" cy="1173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14" descr="TitleSlideTop.jpg"/>
          <p:cNvPicPr/>
          <p:nvPr/>
        </p:nvPicPr>
        <p:blipFill>
          <a:blip r:embed="rId2"/>
          <a:stretch/>
        </p:blipFill>
        <p:spPr>
          <a:xfrm>
            <a:off x="457200" y="457200"/>
            <a:ext cx="8229600" cy="3571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5" descr="TitleSlideBottom.jpg"/>
          <p:cNvPicPr/>
          <p:nvPr/>
        </p:nvPicPr>
        <p:blipFill>
          <a:blip r:embed="rId3"/>
          <a:stretch/>
        </p:blipFill>
        <p:spPr>
          <a:xfrm>
            <a:off x="457200" y="2700360"/>
            <a:ext cx="8229600" cy="37004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Click to edit the outline text format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con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2" marL="8604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Thir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3" marL="11430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our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4" marL="1425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if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5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ix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6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ven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7D3367-F7C8-4B6F-9592-CD4D5FB51298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5"/>
          </p:nvPr>
        </p:nvSpPr>
        <p:spPr>
          <a:xfrm>
            <a:off x="4305240" y="649296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83D7A16-5A1E-4E0E-B783-DC7B28AB1150}" type="slidenum">
              <a:rPr b="1" lang="en-US" sz="1100" spc="-1" strike="noStrike">
                <a:solidFill>
                  <a:srgbClr val="a6a6a6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ftr" idx="6"/>
          </p:nvPr>
        </p:nvSpPr>
        <p:spPr>
          <a:xfrm>
            <a:off x="317520" y="6492960"/>
            <a:ext cx="341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10"/>
          <p:cNvSpPr/>
          <p:nvPr/>
        </p:nvSpPr>
        <p:spPr>
          <a:xfrm>
            <a:off x="326880" y="363600"/>
            <a:ext cx="8439120" cy="25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12" descr="SectionHeaderLeft.jpg"/>
          <p:cNvPicPr/>
          <p:nvPr/>
        </p:nvPicPr>
        <p:blipFill>
          <a:blip r:embed="rId2"/>
          <a:stretch/>
        </p:blipFill>
        <p:spPr>
          <a:xfrm>
            <a:off x="469800" y="457200"/>
            <a:ext cx="2217960" cy="594360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12"/>
          <p:cNvSpPr/>
          <p:nvPr/>
        </p:nvSpPr>
        <p:spPr>
          <a:xfrm>
            <a:off x="320760" y="320760"/>
            <a:ext cx="8502480" cy="6216480"/>
          </a:xfrm>
          <a:prstGeom prst="rect">
            <a:avLst/>
          </a:prstGeom>
          <a:noFill/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3"/>
          <p:cNvSpPr/>
          <p:nvPr/>
        </p:nvSpPr>
        <p:spPr>
          <a:xfrm rot="5400000">
            <a:off x="-223200" y="3369240"/>
            <a:ext cx="5943600" cy="1191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Click to edit the outline text format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con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2" marL="8604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Thir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3" marL="11430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our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4" marL="1425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if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5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ix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6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ven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D430235-AE13-447C-BFA3-70273EC65EA4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317520" y="6492960"/>
            <a:ext cx="341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4306680" y="6492960"/>
            <a:ext cx="533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B9D7DAA-2AD3-4CBD-9F0B-B02FBCD7AB80}" type="slidenum">
              <a:rPr b="1" lang="en-US" sz="1100" spc="-1" strike="noStrike">
                <a:solidFill>
                  <a:srgbClr val="a6a6a6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10" descr="RunningTop-R.jpg"/>
          <p:cNvPicPr/>
          <p:nvPr/>
        </p:nvPicPr>
        <p:blipFill>
          <a:blip r:embed="rId2"/>
          <a:stretch/>
        </p:blipFill>
        <p:spPr>
          <a:xfrm>
            <a:off x="457200" y="457200"/>
            <a:ext cx="8229600" cy="138276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6"/>
          <p:cNvSpPr/>
          <p:nvPr/>
        </p:nvSpPr>
        <p:spPr>
          <a:xfrm>
            <a:off x="320760" y="320760"/>
            <a:ext cx="8502480" cy="6216480"/>
          </a:xfrm>
          <a:prstGeom prst="rect">
            <a:avLst/>
          </a:prstGeom>
          <a:noFill/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9"/>
          <p:cNvSpPr/>
          <p:nvPr/>
        </p:nvSpPr>
        <p:spPr>
          <a:xfrm>
            <a:off x="457200" y="1841400"/>
            <a:ext cx="8229600" cy="1191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traight Connector 10"/>
          <p:cNvSpPr/>
          <p:nvPr/>
        </p:nvSpPr>
        <p:spPr>
          <a:xfrm flipH="1">
            <a:off x="4572000" y="2797200"/>
            <a:ext cx="1440" cy="3375000"/>
          </a:xfrm>
          <a:prstGeom prst="line">
            <a:avLst/>
          </a:prstGeom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Click to edit the outline text format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con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2" marL="8604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Thir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3" marL="11430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our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4" marL="1425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if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5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ix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6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ven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D1F2F1-5449-43A1-8B4C-D4E59C815DE0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317520" y="6492960"/>
            <a:ext cx="341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>
            <a:off x="379440" y="6149520"/>
            <a:ext cx="533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99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907847-7B88-4FEE-9B48-B7A57A6A8983}" type="slidenum">
              <a:rPr b="0" lang="en-US" sz="18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10"/>
          <p:cNvSpPr/>
          <p:nvPr/>
        </p:nvSpPr>
        <p:spPr>
          <a:xfrm>
            <a:off x="355680" y="566640"/>
            <a:ext cx="8396280" cy="259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11"/>
          <p:cNvSpPr/>
          <p:nvPr/>
        </p:nvSpPr>
        <p:spPr>
          <a:xfrm>
            <a:off x="320760" y="320760"/>
            <a:ext cx="8502480" cy="6216480"/>
          </a:xfrm>
          <a:prstGeom prst="rect">
            <a:avLst/>
          </a:prstGeom>
          <a:noFill/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12"/>
          <p:cNvSpPr/>
          <p:nvPr/>
        </p:nvSpPr>
        <p:spPr>
          <a:xfrm>
            <a:off x="457200" y="457200"/>
            <a:ext cx="8229600" cy="1191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Click to edit the outline text format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con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2" marL="8604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Thir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3" marL="11430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our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4" marL="1425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if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5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ix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6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ven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917017-B9EE-4B68-952A-480B62C04FEB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17520" y="6492960"/>
            <a:ext cx="341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379440" y="6149520"/>
            <a:ext cx="533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99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D069FF-F605-4A79-8F67-8CBD2F9B26FC}" type="slidenum">
              <a:rPr b="0" lang="en-US" sz="18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10"/>
          <p:cNvSpPr/>
          <p:nvPr/>
        </p:nvSpPr>
        <p:spPr>
          <a:xfrm>
            <a:off x="333360" y="566640"/>
            <a:ext cx="845496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11"/>
          <p:cNvSpPr/>
          <p:nvPr/>
        </p:nvSpPr>
        <p:spPr>
          <a:xfrm>
            <a:off x="320760" y="320760"/>
            <a:ext cx="8502480" cy="6216480"/>
          </a:xfrm>
          <a:prstGeom prst="rect">
            <a:avLst/>
          </a:prstGeom>
          <a:noFill/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12"/>
          <p:cNvSpPr/>
          <p:nvPr/>
        </p:nvSpPr>
        <p:spPr>
          <a:xfrm>
            <a:off x="457200" y="457200"/>
            <a:ext cx="8229600" cy="1191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Click to edit the outline text format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con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2" marL="8604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Thir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3" marL="11430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our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4" marL="1425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if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5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ix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6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ven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 type="dt" idx="16"/>
          </p:nvPr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8156153-D731-43E0-97E4-5D22874F8A74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 type="ftr" idx="17"/>
          </p:nvPr>
        </p:nvSpPr>
        <p:spPr>
          <a:xfrm>
            <a:off x="317520" y="6492960"/>
            <a:ext cx="341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 type="sldNum" idx="18"/>
          </p:nvPr>
        </p:nvSpPr>
        <p:spPr>
          <a:xfrm>
            <a:off x="379440" y="6149520"/>
            <a:ext cx="533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99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6FE1CC-0CFD-4AFA-8C5D-401798F47E81}" type="slidenum">
              <a:rPr b="0" lang="en-US" sz="18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"/>
          <p:cNvSpPr/>
          <p:nvPr/>
        </p:nvSpPr>
        <p:spPr>
          <a:xfrm>
            <a:off x="355680" y="347760"/>
            <a:ext cx="8432640" cy="23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11"/>
          <p:cNvSpPr/>
          <p:nvPr/>
        </p:nvSpPr>
        <p:spPr>
          <a:xfrm>
            <a:off x="320760" y="320760"/>
            <a:ext cx="8502480" cy="6216480"/>
          </a:xfrm>
          <a:prstGeom prst="rect">
            <a:avLst/>
          </a:prstGeom>
          <a:noFill/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12"/>
          <p:cNvSpPr/>
          <p:nvPr/>
        </p:nvSpPr>
        <p:spPr>
          <a:xfrm rot="5400000">
            <a:off x="5597640" y="3310560"/>
            <a:ext cx="5943600" cy="2365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Click to edit the outline text format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con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2" marL="8604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Thir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3" marL="11430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our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4" marL="1425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if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5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ix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6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ven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dt" idx="19"/>
          </p:nvPr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43F443-5F46-4A51-88C7-DB40F05F749B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 type="ftr" idx="20"/>
          </p:nvPr>
        </p:nvSpPr>
        <p:spPr>
          <a:xfrm>
            <a:off x="317520" y="6492960"/>
            <a:ext cx="341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 type="sldNum" idx="21"/>
          </p:nvPr>
        </p:nvSpPr>
        <p:spPr>
          <a:xfrm>
            <a:off x="379440" y="6149520"/>
            <a:ext cx="533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99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F85B45-AF6B-40B7-B896-070D57DF3DF8}" type="slidenum">
              <a:rPr b="0" lang="en-US" sz="18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10"/>
          <p:cNvSpPr/>
          <p:nvPr/>
        </p:nvSpPr>
        <p:spPr>
          <a:xfrm>
            <a:off x="347760" y="363600"/>
            <a:ext cx="8440560" cy="23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Picture 12" descr="VerticalRight.jpg"/>
          <p:cNvPicPr/>
          <p:nvPr/>
        </p:nvPicPr>
        <p:blipFill>
          <a:blip r:embed="rId2"/>
          <a:stretch/>
        </p:blipFill>
        <p:spPr>
          <a:xfrm>
            <a:off x="7112160" y="457200"/>
            <a:ext cx="1546200" cy="5943600"/>
          </a:xfrm>
          <a:prstGeom prst="rect">
            <a:avLst/>
          </a:prstGeom>
          <a:ln w="0">
            <a:noFill/>
          </a:ln>
        </p:spPr>
      </p:pic>
      <p:sp>
        <p:nvSpPr>
          <p:cNvPr id="314" name="Rectangle 12"/>
          <p:cNvSpPr/>
          <p:nvPr/>
        </p:nvSpPr>
        <p:spPr>
          <a:xfrm rot="5400000">
            <a:off x="4073760" y="3369240"/>
            <a:ext cx="5943600" cy="1191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13"/>
          <p:cNvSpPr/>
          <p:nvPr/>
        </p:nvSpPr>
        <p:spPr>
          <a:xfrm>
            <a:off x="320760" y="320760"/>
            <a:ext cx="8502480" cy="6216480"/>
          </a:xfrm>
          <a:prstGeom prst="rect">
            <a:avLst/>
          </a:prstGeom>
          <a:noFill/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Click to edit the outline text format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con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2" marL="8604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Thir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3" marL="11430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our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4" marL="1425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if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5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ix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6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ven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 type="dt" idx="22"/>
          </p:nvPr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EDE49F-E21F-411E-A596-AE8CA9F32287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 type="ftr" idx="23"/>
          </p:nvPr>
        </p:nvSpPr>
        <p:spPr>
          <a:xfrm>
            <a:off x="317520" y="6492960"/>
            <a:ext cx="341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 type="sldNum" idx="24"/>
          </p:nvPr>
        </p:nvSpPr>
        <p:spPr>
          <a:xfrm>
            <a:off x="379440" y="6149520"/>
            <a:ext cx="533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99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D1FAFD5-C1C1-4661-9DF5-715E925CD596}" type="slidenum">
              <a:rPr b="0" lang="en-US" sz="18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440" y="968040"/>
            <a:ext cx="7799400" cy="123660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r">
              <a:lnSpc>
                <a:spcPts val="49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990000"/>
                </a:solidFill>
                <a:latin typeface="Calisto MT"/>
              </a:rPr>
              <a:t>Strategies for Studying History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685440" y="2209320"/>
            <a:ext cx="7799400" cy="4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Calisto MT"/>
              </a:rPr>
              <a:t>Reading Skills to Make Understanding Easier</a:t>
            </a:r>
            <a:endParaRPr b="0" lang="en-US" sz="18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59" name="TextBox 3"/>
          <p:cNvSpPr/>
          <p:nvPr/>
        </p:nvSpPr>
        <p:spPr>
          <a:xfrm>
            <a:off x="1641600" y="3225960"/>
            <a:ext cx="183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990000"/>
                </a:solidFill>
                <a:latin typeface="Calisto MT"/>
              </a:rPr>
              <a:t>Preview Chapters Before You Read!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Read chapter title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tudy </a:t>
            </a:r>
            <a:r>
              <a:rPr b="1" lang="en-US" sz="2000" spc="-1" strike="noStrike">
                <a:solidFill>
                  <a:srgbClr val="262626"/>
                </a:solidFill>
                <a:latin typeface="Calisto MT"/>
              </a:rPr>
              <a:t>Before You Read</a:t>
            </a: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 section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Preview time line and note the years covered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Calisto MT"/>
              </a:rPr>
              <a:t>Consider important events that happened</a:t>
            </a:r>
            <a:endParaRPr b="0" lang="en-US" sz="18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tudy the map to know where important events took place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1000" fill="hold"/>
                                        <p:tgtEl>
                                          <p:spTgt spid="3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1000" fill="hold"/>
                                        <p:tgtEl>
                                          <p:spTgt spid="3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990000"/>
                </a:solidFill>
                <a:latin typeface="Calisto MT"/>
              </a:rPr>
              <a:t>Preview Lessons Before You Read!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tudy the information under the heading </a:t>
            </a:r>
            <a:r>
              <a:rPr b="1" lang="en-US" sz="2000" spc="-1" strike="noStrike">
                <a:solidFill>
                  <a:srgbClr val="262626"/>
                </a:solidFill>
                <a:latin typeface="Calisto MT"/>
              </a:rPr>
              <a:t>Main Ideas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Preview the </a:t>
            </a:r>
            <a:r>
              <a:rPr b="1" lang="en-US" sz="2000" spc="-1" strike="noStrike">
                <a:solidFill>
                  <a:srgbClr val="262626"/>
                </a:solidFill>
                <a:latin typeface="Calisto MT"/>
              </a:rPr>
              <a:t>Terms and Names </a:t>
            </a: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list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Read the paragraph under </a:t>
            </a:r>
            <a:r>
              <a:rPr b="1" lang="en-US" sz="2000" spc="-1" strike="noStrike">
                <a:solidFill>
                  <a:srgbClr val="262626"/>
                </a:solidFill>
                <a:latin typeface="Calisto MT"/>
              </a:rPr>
              <a:t>Build on What You Know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Notice the structure of the lesson (Red headings)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Check, know and understand the </a:t>
            </a:r>
            <a:r>
              <a:rPr b="1" lang="en-US" sz="2000" spc="-1" strike="noStrike">
                <a:solidFill>
                  <a:srgbClr val="262626"/>
                </a:solidFill>
                <a:latin typeface="Calisto MT"/>
              </a:rPr>
              <a:t>Words to Know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</p:spTree>
  </p:cSld>
  <p:transition>
    <p:dissolve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10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10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1000" fill="hold"/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1000" fill="hold"/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1000" fill="hold"/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1000" fill="hold"/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1000" fill="hold"/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1000" fill="hold"/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990000"/>
                </a:solidFill>
                <a:latin typeface="Calisto MT"/>
              </a:rPr>
              <a:t>Use Active Reading Strategies as You Read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68200" indent="-2682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Look for the </a:t>
            </a:r>
            <a:r>
              <a:rPr b="1" lang="en-US" sz="2000" spc="-1" strike="noStrike">
                <a:solidFill>
                  <a:srgbClr val="262626"/>
                </a:solidFill>
                <a:latin typeface="Calisto MT"/>
              </a:rPr>
              <a:t>Essential Question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1" marL="548640" indent="-280440"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Calisto MT"/>
              </a:rPr>
              <a:t>Finding the answer will guide your reading</a:t>
            </a:r>
            <a:endParaRPr b="0" lang="en-US" sz="1800" spc="-1" strike="noStrike">
              <a:solidFill>
                <a:srgbClr val="262626"/>
              </a:solidFill>
              <a:latin typeface="Calisto MT"/>
            </a:endParaRPr>
          </a:p>
          <a:p>
            <a:pPr marL="268200" indent="-2682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Calisto MT"/>
              </a:rPr>
              <a:t>Study</a:t>
            </a: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 the captions and any boxed features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marL="268200" indent="-2682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Calisto MT"/>
              </a:rPr>
              <a:t>Visualize</a:t>
            </a: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 the people, places and events you read about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1" marL="548640" indent="-280440"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Calisto MT"/>
              </a:rPr>
              <a:t>Study the pictures, maps and other illustrations</a:t>
            </a:r>
            <a:endParaRPr b="0" lang="en-US" sz="1800" spc="-1" strike="noStrike">
              <a:solidFill>
                <a:srgbClr val="262626"/>
              </a:solidFill>
              <a:latin typeface="Calisto MT"/>
            </a:endParaRPr>
          </a:p>
          <a:p>
            <a:pPr marL="268200" indent="-2682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Read to build your vocabulary – Use the </a:t>
            </a:r>
            <a:r>
              <a:rPr b="1" lang="en-US" sz="2000" spc="-1" strike="noStrike">
                <a:solidFill>
                  <a:srgbClr val="262626"/>
                </a:solidFill>
                <a:latin typeface="Calisto MT"/>
              </a:rPr>
              <a:t>Vocabulary Strategy </a:t>
            </a: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in the margins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</p:spTree>
  </p:cSld>
  <p:transition>
    <p:dissolve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1000" fill="hold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1000" fill="hold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1000" fill="hold"/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1000" fill="hold"/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1000" fill="hold"/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1000" fill="hold"/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1000" fill="hold"/>
                                        <p:tgtEl>
                                          <p:spTgt spid="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1000" fill="hold"/>
                                        <p:tgtEl>
                                          <p:spTgt spid="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1000" fill="hold"/>
                                        <p:tgtEl>
                                          <p:spTgt spid="3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3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3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1000" fill="hold"/>
                                        <p:tgtEl>
                                          <p:spTgt spid="3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990000"/>
                </a:solidFill>
                <a:latin typeface="Calisto MT"/>
              </a:rPr>
              <a:t>Review and Summarize What You Have Read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Answer the review questions at the end of each section of the lesson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Reread the main headings for a review of what you just read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tudy any charts, graphs or maps – this media contains valuable information about your lesson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Complete all questions in the </a:t>
            </a:r>
            <a:r>
              <a:rPr b="1" lang="en-US" sz="2000" spc="-1" strike="noStrike">
                <a:solidFill>
                  <a:srgbClr val="262626"/>
                </a:solidFill>
                <a:latin typeface="Calisto MT"/>
              </a:rPr>
              <a:t>Lesson Review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</p:spTree>
  </p:cSld>
  <p:transition>
    <p:dissolve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1000" fill="hold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1000" fill="hold"/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1000" fill="hold"/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-395280" y="108000"/>
            <a:ext cx="9104400" cy="168120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990000"/>
                </a:solidFill>
                <a:latin typeface="Calisto MT"/>
              </a:rPr>
              <a:t>A Summary of the Important Ideas for Studying History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37240" indent="-23724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Each chapter begins with a two-page chapter opener.  Study these pages to help you get ready to read.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marL="237240" indent="-23724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Each chapter consists of either three or four lessons.  These lessons focus on specific time periods or particular lesson themes.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marL="237240" indent="-23724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Read one lesson at a time, from beginning to the end.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marL="237240" indent="-23724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When you finish reading a lesson, review and  summarize what you have read.  If necessary go back and reread information that was not clear the first time through.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</p:spTree>
  </p:cSld>
  <p:transition>
    <p:dissolve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3T23:38:04Z</dcterms:created>
  <dc:creator>Debby/Caven</dc:creator>
  <dc:description/>
  <dc:language>en-US</dc:language>
  <cp:lastModifiedBy>Debby/Caven</cp:lastModifiedBy>
  <dcterms:modified xsi:type="dcterms:W3CDTF">2009-09-03T23:51:23Z</dcterms:modified>
  <cp:revision>14</cp:revision>
  <dc:subject/>
  <dc:title>Strategies for Studying History</dc:title>
</cp:coreProperties>
</file>